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529-AE5B-4B79-AE7C-BF0C4350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EDC7-6975-4ED3-81C9-2A20CAC7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095461-C29B-4C98-9BA8-38BD08AE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0A4413-6A33-4A1E-8535-AE1777C0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10F272-94BC-4D76-A870-E5145A58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913E82-88BE-420D-9A8A-05618FE7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8416B7-3D39-4689-B193-6F5D3067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204E78-F7E2-4A45-9C49-B36EDA91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B89625-0F54-41CA-BE48-4D9DB776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8E0B59-C0F3-404A-841A-8E1B120E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8C3C79-AC98-4001-9135-FD5B42CD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DC3F4-98D2-473B-B9C4-3834158F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4D5-FED4-4A56-8BDF-391E81CD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7740C-7347-41F3-BE72-8665C08C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721C8-65D3-45CA-9B41-533EB443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FBC5F-A4D0-4E01-AC06-3A812BCD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83B5C-4E2B-4AF0-BD88-FCBD4A8E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AAF5A-C028-44B2-8CC1-C7487F2C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A540F-D4AA-4284-A7A1-720F9D58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C6F2D-1433-41F6-B5A6-673DCCFF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41D84-68C4-426F-9BAF-FE25DF8E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22D29-16A7-4804-9E2D-14EE265D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AE0F1-615B-4C1C-B5AE-7FDAAE63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431-CEA3-4C6E-B980-9BB5B86F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72173-D2F1-4D52-8AD8-5B7A0B81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0E28F-90A8-4103-8D2C-635418B9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41C2E-94AD-4CE9-98A5-A955E239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2DB00-3545-4A5E-9F54-A3FDAE2C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B3FA5-8AEC-45D6-BB10-4022DFBC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D6DC0-9640-4D3D-96C9-D426B67E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31289-1626-4B5B-9E93-8E9AC23E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4F978-F87F-43CC-AB58-AC9C11B1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C162B-3723-4676-AD20-48B26D94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890B4-345B-4B60-A133-4CB9C2A8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D0C9-9B87-4A02-9EB1-307C562F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812F0-630A-4072-996C-88E91015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15ECB-343E-4A53-8BB0-FC5804A2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FF2B6-7F9A-4545-9E5B-B3B98EA4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F9E06-AED8-42F1-B105-3096798B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2A9A3-2163-4B80-B781-36CFC922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DA246-C228-48D1-8A50-021C9468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E6071-B2C8-4DD6-9B8C-FD571F61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7A068-2B45-404A-9FE5-E2428843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68691-FB7B-41DD-80BF-F89E5A6F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8B4ED-75A0-46C1-9DBC-C8C2E6C1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CE67-1258-4888-BEE9-AA37E3F8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D1451-6774-4068-BEB6-A541525E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DAF5F-CBAD-4C9F-B3CC-1D796B65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CAD10-886E-4415-BF69-9952436F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D603F-6C23-40DD-BC7E-CB95DA86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BE930-3B43-41B5-A8FD-FCF2391C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A92B75-BE31-43D5-9BAD-D9327D0B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E0C37-84FC-45F6-A8BF-D182C27B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1E4D3-215B-4804-8DF2-7C7B208F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8546A-3D79-4881-9966-67B0509A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C723C-2881-4EE9-9AEF-598AB4D0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EEC0-6693-4FC3-9283-C3AA38F2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38905-14C0-43AB-B4E0-EBC52622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AEEE5-3BB7-4A96-BEC6-C3249E9B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5C1E94-9FC0-4A93-8BB0-98AF924F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E6155-427F-4EB8-AB27-1D63FC66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F2C9D-0B91-4AAD-856A-DBE9163E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81072-8AC4-4E53-B79F-22AF8859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A4B2D-8824-485E-A189-377ED8B4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CCEE7-31AD-4A42-A196-ADD23031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864C5-662B-4BD1-A5E4-ED318602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41E77-72AB-41E6-8680-0372E539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C0CB-FE23-4243-AFCA-0B398F6A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5BC18-5682-425E-8685-A09A6706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6F71D-4FCF-4685-87A1-C1C6DDA0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0D22F6-CB41-40AC-91AD-3D5563F3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52614-AA7D-45B1-B1B9-C46EBAFB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951F5D-CA39-42B9-BA80-E530F601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B7345-1695-4D21-885C-C8005AEE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CBEB40-7075-4231-B654-0CB1CABB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E9FC1A-EDD4-4F9B-A98D-EC155158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274CA-1231-42BE-BB6A-EC0418A6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974FBD-F7EA-47D3-9CA8-7F960FDB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3DA8-3BFC-49C2-AB36-EFB3109B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0C66E9-1FC6-41A7-B0E4-42B9B93E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93D2E-5CA1-4F07-A8E0-4507C380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D1E650-EC53-4E06-BBDD-C08F62FC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4E9C1E-3065-4FDC-A20F-E4AD290C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FC4372-82D2-42BB-B5F3-FBEA49BF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04C65-C443-4055-A5DC-A4A9DE05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B8D700-75A5-45A4-80A4-9B487697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FD85B-2FF5-4A2D-8E95-FE99CA83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4E472-72DB-4757-B832-7ADF1D84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816A0B-D0FA-42BE-BF81-42EE939D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3D26-D849-4CCB-913B-4DE0D202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E23F14-2679-4601-BC77-8DBF7296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E7241B-B96C-4832-88DE-566EA7BB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48A3C8-E3C3-4892-B56B-F7B593D4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80E1EE-6268-4FF4-BF98-C931B827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F7997D-6C98-4C7A-A71B-C687174D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2EC0A1-978B-4127-9C66-68D6FAFC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7C58F9-DF1B-4182-A70F-77AA5EF9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261ABE-B093-405B-8643-CF0088D6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60F58B-A016-4E30-882A-61456026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20888-DA28-4DED-A466-0D9CDFBE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43C6-2EEE-4773-986A-16F132AC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338037-9CD2-42FF-8414-59270535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136532-52F0-4350-A978-C4685B8F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0E32E7-E3D2-4204-96BE-48364D78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868688-4F0C-40F7-B90A-75C9BF98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68D711-0602-4F9F-8386-269A8523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B935F4-5FFE-470D-A48B-2FD5328E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13F2D5-197C-4057-BD24-BF93804B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AD2D72-2BA1-412A-A1AB-EDDD3EC7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4152AF-63CE-495F-8AF5-776F0329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3797AE-7A2F-4314-8A2D-2E52882B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7E5-5354-4EDF-B20C-1BACB207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8C0A-12D9-4690-87D6-E5D63A28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8E4DE1-5007-4322-844A-F6D2B43C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C36A0D-3A5F-4FA9-9CD4-567E691F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7A957E-B2E1-4FCB-BAF5-9F619A7C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4DBD35-A2B9-4D5E-8D28-87B1AD6E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1EF32A-9282-4264-B4E9-DCEA0560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56DB54-2BAE-4DAA-B74C-2CBFC0DD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6A14B9-7E3B-4518-8ADF-0D625493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F04F5F-62DA-4C16-8016-4490CF4C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77C0CD-405A-410F-A706-8B93C18B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3DC790-14E9-4DBE-A991-2B04B76C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DF77-AF86-4E67-87B2-EBEC8330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180A38-0851-4771-A65F-61429A2E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509654-B521-4645-A685-0150E697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4F1B03-0F08-40F3-AEBC-6E5E4B0E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FD3039-51DD-4F2B-A38E-5BEE0382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8CBBD7-C524-4E03-BA02-57732A18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F16324-6DA7-4CCA-91E4-86D21999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B387C5-BB15-4E49-AA7B-37B940DB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953E37-90FC-47B2-9FFD-6E21BC96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5C17B2-E6FC-4D75-BE06-028061C5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3FC41C-B4A4-489E-B874-2D68DC49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DA63-A72F-476C-8FF5-1BC757F9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4C9B8A-02A9-4C0C-BE10-59F52A70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61F338-0AC6-41E6-8843-11397337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2748E2-6469-437F-83E4-3D636B91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860F47-31A6-4C0A-8B07-6CEE3133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0175C8-5604-4A05-87D8-4C92B903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4E7BB1-6AC4-4AAC-9058-DDD0F245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416DE0-707C-4FF9-A267-273E4DA8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9E95CD-8BDA-4969-822A-325EFE9C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96A613-3933-4B05-B0DB-8C64BF28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C07517-B400-46BC-97BF-BDBDF56D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CBAC-F20E-4F20-97B6-00C00D6B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48510F-FDD3-44E9-98F3-CD9814F5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2DB9A4-D770-4B71-8899-95E6854C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2E9FD-324C-4BF4-9525-5E7BDB71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EA5C70-A9F4-44E7-ADF1-A3D261F1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FE27D7-C47E-4704-96DD-21828129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FD050E-0698-4C12-A54F-58A8DCCA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9E5151-8BEA-44E8-85B7-5AB7B0D4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863AE7-30FB-4B02-BA3B-ECF0C970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0C9BF2-96F0-4FB0-8420-FEC1D1B9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CEC229-C441-4B7A-A8F0-B9D604F0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1FD1-0E86-4613-9487-8C8747E6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0645A8-5CCA-4F42-A19E-D8033F2B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6329F7-3B81-4915-8578-390EE56A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2E3446-BDAC-4EB5-8833-C336EEF9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4012D6-393F-4A81-8FB8-7D00DF5C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AE4AAD-D892-4E3B-9810-3B840179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34BED4-A7DF-4A91-A47F-4C260CD8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7C20B2-B276-4CC8-8E22-14CDCCEF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BA4A92-3D29-4D2C-8FFC-CAB24C05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BE3E0E-F42F-4B71-86B1-D55C4F62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F78A55-6522-42DE-B192-F2FB89D5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BD1F4-08AC-4C2F-A02D-3F4F5EED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7C633E-EE1F-457F-9451-19FDCD08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4EF7EB-1DAA-4D3A-9678-033E42C7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B6BB78-A82A-4FD4-AB4B-F60DE9CA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8A35CB-31A8-4207-A017-58CA1C4E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C80FE3-526F-490B-9A7F-949C7B56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400571-22F1-4DF4-B268-3E0C5534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0EBD22-4BB5-4863-9C26-E0F795B3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985888-9262-4C2A-BD84-C952EC75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125015-D2FB-4153-9AD4-2A405F35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BC8371-86E6-40BE-ABA5-A5C8217C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8992B-1167-4349-B46F-85E8E6F0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6DC661-D99A-4E77-AAF4-F5175CC5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E85437-B470-4A6E-90F7-0321C2F5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64E372-EFC3-47C4-A638-B9C5CECE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89FCB9-2276-46BE-A726-E7F1FCEC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95E3C0-29B8-481E-8B06-0B7F0042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8C5CE43-A092-40AC-9DEC-85E401AD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4D79478-FC21-441A-A307-FDCF095B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6088E53-2EAA-4E66-B959-1B9B8C7A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DA5A1D1-53ED-4FC3-982B-E5B1861F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BE5B473-DA01-4699-88D7-D30E799C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8CECA-DA40-40C6-BD2C-5A6D773E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D771AB9-4484-4677-A430-8274F4D3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BC93ADA-64F9-40CE-96FB-48E34BB1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CFCCDD7-655F-4640-9FF4-5134C0F6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13517FD-2659-4036-AB08-0CDE0FB1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BF6A685-4D10-4D7C-BD57-6E85009B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7E09CE4-30AD-4D67-839F-8F6264AB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4431F31-D880-44DA-9382-2318970F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DE3EA-18C2-4939-8EF4-CEF06527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AEF6C-C610-4C31-A239-111C7E05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96D-E6C5-47E4-9FBB-59735C3C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53455-A917-4F76-9470-FF2F5C92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B9FF6-CE59-4ED0-832D-2B566F10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5AFB3-157A-4AAB-B38E-F15D8353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AFFED-7FD7-4430-96FC-66719386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705EC-B128-4D1C-AF27-EFA0E0A7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492F3-2D3D-4C23-9CA7-148A498F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3B26D-6A10-47DF-8F15-A3C7145D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01119F-CAA2-4434-A473-83707FCD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F21C2F-023E-438C-B923-5C3DDCBD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284C7A-351D-4123-B46F-B4FD9A16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253-8374-49FD-9261-EB5CF8B7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507EFD-D285-4DFE-A1B3-E83D16EF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DCD700-1D21-4F01-B2C1-77EAE718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A27FC5-259B-4984-A59F-B4A6A1DB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F538C6-A9D1-48A3-B495-6233887D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DC5DBE-5E1D-45C4-A4DD-96BA150D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FA48AD-0C8B-4AC0-9D6C-447CE5CC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9C9DB5-52D1-453B-8A93-F3853C0D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84F5D5-409A-447F-8970-0688614C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CA56A3-53B8-46D4-8CC7-DA3D1442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A20DC-9F18-44D0-A0EE-2A254943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C37-2B2A-4423-BD1E-DCEBDE36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E9B63-A64B-4BDA-A958-11A23A07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0BCED-9E69-4E6A-B5A3-F2520781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73180-87A0-43BF-8451-4023B51F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0026A-A049-4B3F-8621-6B958284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227F3-0FB4-4426-9320-1AF15062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4E5BB-F816-4519-824C-E6DA461A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714E8-7AD1-432D-818B-201ACDBF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A3E79-40F5-4197-8E85-FC3834F3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46010-BC7C-41D1-87CB-1B06A774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C3F5C-44FC-442B-8279-5417E87E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9EEE-E8CD-482E-8F1D-4E5D9459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0A56D-C161-4ED1-B57C-C25A30A0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0C8F4-D2ED-4D16-B4AF-190A32BA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8BFE0-8609-442A-AE35-C52F299B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92032-F35B-4AF3-89AF-826812B3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75F09-80E2-4783-8B00-B8379588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629B8-D07E-4055-9BE6-28C019E9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4F798-4F38-451B-9B65-1D59CE69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6D710-E4D7-483E-8A67-CA6F7D18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D1566-DA31-4044-8069-38F4BE22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4DD1D-22F0-4244-832D-34717737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331-E909-43E9-8AE7-DF67551E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10B0C-334E-47EA-BE87-C4488C98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98562-9542-49CA-9934-37F474DA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58BCB-ED92-47A3-ACA9-68219E8F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E45EC-4038-42B8-A02B-70265334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C9418-D760-4843-A580-3ABEF732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12E54-5361-4F2A-8750-F5390B5C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E6C62-6214-4B94-8927-7C1080BA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5C0CF-8136-4A62-9BEA-8AC53526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51333-DC37-4759-BE03-C59B6284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334B0-2766-4E97-A659-1B288C71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0EF-3FB7-430B-8A64-D21AF700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F5D85-19C3-4528-925E-B6BCFEA8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1DBF0-5F7B-49F5-B46E-C38C9598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F13FD-FA5E-4D9D-AA91-52B1E160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1CB24-E5AA-49E0-B60B-80DFB936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7014A-F80A-4F12-83EA-C61108ED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4BA70-5015-438C-AD20-8E0FFBD3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30727-32DA-4B67-B12D-FFDD2EEE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E945B-FD60-4689-9A48-FC81806B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19E99-8B03-4F08-ACE5-F1FBBCAF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CD5B9-F9BC-4613-8539-EBA3F52B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F96-4379-4EED-BD6C-F3422BF5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6CA42-810C-4C4C-AD5C-56EC472A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DF094-C8A0-45B7-94F9-EF0090C5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E953B-22C3-42B0-9F70-FCACC184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68606-EBFC-49B3-A5DC-24C4A570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A90CF-E037-4972-8805-A10563C8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54DD2-3E47-448D-BFF6-225131DA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7ABAC-5576-4E37-84A1-E5410E23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821B55-45F9-4FB2-843D-A0511F18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D1952B-765F-40D4-B1CE-978145E5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4B6D3A-408C-4EB5-ACFF-4823D090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CB78-C079-4746-843B-C9D6AB4D2C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2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15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6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DADB-D581-4970-BED8-A9118198E8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0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80F7-254F-4280-8587-17F1BEE87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6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19E5-2B9E-4D6B-857B-977B330DE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32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32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33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4AF7-C8D2-4FFD-9983-CA9095CE5C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51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51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53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dt" idx="4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B776-75D5-46CB-BE08-597631E78A8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06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08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733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734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9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750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2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dt" idx="4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ftr" idx="4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sldNum" idx="4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47BB-7215-4366-8339-1678B09ADE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1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81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1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3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4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85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85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dt" idx="4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ftr" idx="4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0283-55C5-4B70-BA1B-32F780658F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91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92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92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93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94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94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95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3E50-6D6E-4FD0-B6F1-B733157C9DB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99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99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99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01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02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2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02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E80F-A1F9-4F7F-86E9-9F5C590FDC9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07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3FE9-A4B7-4425-A97D-C810FB030E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7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97BC-BD92-4E90-A208-B9FBC6A04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2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B132-E3B8-4B7B-87F5-9DC8652817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16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67" name="PlaceHolder 1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37CC-4EDB-4062-8D38-C5C405ED68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096D-AC1E-46F2-9C21-1C027A587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 type="ftr" idx="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 type="sldNum" idx="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1282-19F1-4B6F-AF5C-F7B859389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 type="dt" idx="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5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5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6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6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6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6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71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72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7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7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81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84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87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90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93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96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99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202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205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208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21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1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217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2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2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26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29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32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236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37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4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4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46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49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52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5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58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61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64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67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0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2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7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8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9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2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7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8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6C6B-2302-449D-A951-00790EA8464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333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4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6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7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9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0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1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2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3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4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5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6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8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9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0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1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2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3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4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5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6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7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8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2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3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5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6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0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1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2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3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5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6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7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8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9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0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1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2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3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4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5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6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7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8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9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0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1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2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3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4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5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6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7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8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9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0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1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2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3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4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5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6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7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8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9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0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1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2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3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4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5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6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7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8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9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0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1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2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3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4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5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6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7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8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9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0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2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3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4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5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6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7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8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9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0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1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2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3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4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5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6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7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8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9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0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1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2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3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4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5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6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7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8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9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0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1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2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3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4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5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6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7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8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9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0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1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2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3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4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5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6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7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8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9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0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1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2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3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4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5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6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7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8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9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0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1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2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3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4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5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6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7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8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9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0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1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2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3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4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5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6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7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8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9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0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1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2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3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4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5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6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7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8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9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0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1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2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3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4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5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6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7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8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9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0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1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2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3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4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5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6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7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8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9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0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1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2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3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4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5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6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7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1B5B-FB04-4C75-A89D-1435453E8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9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9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9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9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9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60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0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BE81-F360-4269-96E0-A7F601F17B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5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5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5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67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7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9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9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CCC7-B3A1-4FB0-94B4-1003205760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5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B153-BB90-42D7-9E3F-8ED8D284D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805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6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7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8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9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0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1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2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3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4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5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6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7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8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9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0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1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2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3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4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5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6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7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8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9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0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1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2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3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4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5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6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7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8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9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0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1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2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3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4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5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6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7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8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9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0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1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2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3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4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5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6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7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8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9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0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1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2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3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4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5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6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7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8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9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0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2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3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4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5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6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7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8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9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0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1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2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3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4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5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6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7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8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9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0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1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2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3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4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5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6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7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8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9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0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1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2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3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4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5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6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7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8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9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0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1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2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3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4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5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6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7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8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9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0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1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2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3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4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5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6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7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8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9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0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1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2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3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4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5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6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7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8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9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0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1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2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3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4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5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6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7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8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9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0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1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2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3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4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5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6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7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8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9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0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1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2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3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4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5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6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7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8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9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0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1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2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3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4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5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6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7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8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9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0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1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2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3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4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5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6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7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8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9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0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1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2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3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4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5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6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7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8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9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0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1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2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3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4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5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6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7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8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9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0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1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2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3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4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5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6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7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8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9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2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18EA-CE55-4494-B243-5F30DAE97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0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0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0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D0E5-E237-4F86-B304-61EA08C644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THER RUSSIA’S PA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subTitle"/>
          </p:nvPr>
        </p:nvSpPr>
        <p:spPr>
          <a:xfrm>
            <a:off x="1549440" y="4059000"/>
            <a:ext cx="604512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Daniel Drisco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lson Wo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abella La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old 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viet economy face Economic problem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quality goods, factories become inefficient because of no competition and being under government contr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p with tanks and airplanes, down with cars and refrig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ew consumer goods, little food, and lines for your basic food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thnic groups disliked the government contr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23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va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8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2-Communist leaders are securely in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2-Russia formed U.S.S.R.(Union of Soviet Socialist Republic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-Vladimir I. Lenin di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41-The Nazis inva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9" name="Picture 3" descr="images234.jpg"/>
          <p:cNvPicPr/>
          <p:nvPr/>
        </p:nvPicPr>
        <p:blipFill>
          <a:blip r:embed="rId1"/>
          <a:stretch/>
        </p:blipFill>
        <p:spPr>
          <a:xfrm>
            <a:off x="5867280" y="3657600"/>
            <a:ext cx="228600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70" dur="2000" fill="hold"/>
                                        <p:tgtEl>
                                          <p:spTgt spid="2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ad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40s to 1980s-Cold war between the United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 to 1985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 V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lin became lea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2" name="Picture 3" descr="imagesCABOBJT6.jpg"/>
          <p:cNvPicPr/>
          <p:nvPr/>
        </p:nvPicPr>
        <p:blipFill>
          <a:blip r:embed="rId1"/>
          <a:stretch/>
        </p:blipFill>
        <p:spPr>
          <a:xfrm>
            <a:off x="3429000" y="2286000"/>
            <a:ext cx="3048120" cy="1504800"/>
          </a:xfrm>
          <a:prstGeom prst="rect">
            <a:avLst/>
          </a:prstGeom>
          <a:ln w="0">
            <a:noFill/>
          </a:ln>
        </p:spPr>
      </p:pic>
      <p:pic>
        <p:nvPicPr>
          <p:cNvPr id="2323" name="Picture 4" descr="images13.jpg"/>
          <p:cNvPicPr/>
          <p:nvPr/>
        </p:nvPicPr>
        <p:blipFill>
          <a:blip r:embed="rId2"/>
          <a:stretch/>
        </p:blipFill>
        <p:spPr>
          <a:xfrm>
            <a:off x="5029200" y="3886200"/>
            <a:ext cx="204804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oviet Collap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khail Gorbachve was responsible for the fall of communisim and the Soviet Un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khail was appointed general secretary in 1985 after three deaths of previous lead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khail introduced many reforms causing problems to be know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were ethnic, political and economic problems in the Soviet Un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Russian Civil W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d by the treaty of Brest-Litov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lict where the red army (communists) defended  the Bolshevik government (anti Bolshev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echoslovak legion retaliates and takes control of trans-siberian rail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anti Bolshevik authorities app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2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2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2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2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d Arm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te Arm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8" name="" descr=""/>
          <p:cNvPicPr/>
          <p:nvPr/>
        </p:nvPicPr>
        <p:blipFill>
          <a:blip r:embed="rId2"/>
          <a:stretch/>
        </p:blipFill>
        <p:spPr>
          <a:xfrm>
            <a:off x="609480" y="1539720"/>
            <a:ext cx="7848720" cy="4784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2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2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2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Bolshevik government started a campaign of “red terro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n July 16-17,1918 the members of Nicholas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I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amily were kill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munists red army took most of east european Russ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anti communists tried to build a new army with help from Britain and the U.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ritish forces fight with the communists at Murman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lchak disliked the socialist revolutionaries and the commun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November 18,1918 Kolchak set up his own dictatorship using a coup d’e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19 the red army invaded Ukraine forcing the socialist revolutionaries to 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sts held some parts of Ukraine while the anti communists hel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llies tried to get the communists and anti communists to make a peace trea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llied forces helped by sending around only 200,000 sold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lchak closed in on the Urals and had his success by Apr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d army countered and Kolchak had to retr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lchak was shot on Feb.7,19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Ukraine was in the white army’s hands due to the efforts of Denik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hite army tried to take more land while the red army was advancing on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hite army prevailed, but had to retre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d army destroyed Gen. Wrangel’s fo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1920 the Russian Civil War en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t’s a bird, It’s a plane, It’s a Super count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second World War, Stalin was taking extra precaution to protect the Sovi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ops were sent out to neighboring countries in Eastern Europe countries to set up Communist gover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lin and the Leaders of these countries strengthened their military and built nuclear weap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 became one of the two super pow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3:57:24Z</dcterms:created>
  <dc:creator>honely tang</dc:creator>
  <dc:description/>
  <dc:language>en-US</dc:language>
  <cp:lastModifiedBy> </cp:lastModifiedBy>
  <dcterms:modified xsi:type="dcterms:W3CDTF">2010-12-22T13:41:01Z</dcterms:modified>
  <cp:revision>16</cp:revision>
  <dc:subject/>
  <dc:title>MOTHER RUSSIA’S PAST</dc:title>
</cp:coreProperties>
</file>